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CFD-6023-42BE-8F5E-2D9E0FF7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AF8-9D03-44A6-BD06-FF0C3318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B74BD-3134-494C-B915-8C55343C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A527B-B21F-44ED-AA8C-B8A3AA6B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7B076-304E-4C43-A7A1-6D396E6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381FA-81B3-4376-AECC-DAED3CD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FC9B8-B906-4ABA-B166-BFFF64A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1C285-C613-4524-B91A-F7DDEC2F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F905B-30DF-495D-9F82-6541607B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2EB85-61AE-4B9B-B360-F8814E0D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85148-19A0-4091-A12F-13AF31AB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847BF-D4DB-452F-B913-6DAD00AF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7B3-6DBD-493B-A6D4-92F2BCE7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24ABD-6712-4D6F-B301-794136F1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31E2E-02E4-4F77-A271-0E362A22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B04E9-8799-4AD3-A976-F86B19D0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D01D0-6395-4CD6-8A64-716DEA17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5B817-0FA2-40A2-9EF3-DB026E5E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13878-09CA-4978-97C7-1C302EE0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85B4E-56D3-4729-AF10-3650D11F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16725-E689-45E9-828C-986BAAF9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4D12C-FBCA-4613-B6A8-7B0F565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32698-34AC-4CD0-BCBB-92A1F848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4D6-A3AA-451C-803F-126102D0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3417E-8174-4C61-9A06-B9C07543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E519B-CB4E-4486-A81D-D74A7844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E455A-7EEF-4F20-99B9-C8ED2A21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B2D89-9B6D-453B-B5E8-CC497C9B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28157-014D-4429-B6AE-C56704B8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9B65A-4374-4C17-BAC0-C9781874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0EBB1-C7C9-49CB-AAD2-0133B3BA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8D506-04B4-456D-B533-360461B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D57A2-B383-418E-B517-D8FD5B2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A8C57-256F-4A9F-AB30-A5A77190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34A3-EE38-4D55-80EB-0F154BDC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99304-E43D-4F42-B5B3-2FEBB284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75F05-8C80-4B62-8906-DB83A927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0DDE7-A97A-400A-813F-AEF806B2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70BE0-654D-4FD2-A243-1DB7DF84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9F401-9C32-49C8-8DFC-96FD2347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E13AD-D67A-48B6-8092-20F595D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A29C1-E39B-4DAC-AC46-69B200C7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322A8-B63C-48DD-BD2A-37084799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D9F5E-6702-4657-ADAC-354389A3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42E96-8951-4575-BD39-175A62F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A238-DBC9-4E9E-B7A9-21A8FD3B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530A2-C6B3-4DFC-8046-1BE608C0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97D08-539A-4541-B315-F7276F7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1C602-2687-45E8-8076-29A100C9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65CA4-6E14-40C8-89C1-8F4CCFC9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F6C6A-DF0E-403C-9713-572BC969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99148-5763-4295-9B99-C8CF9A6A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AB3EE-2664-4E4F-B4B7-3F0269FA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4301E-129C-4CDF-8E5A-D519A9A8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00FA6-0B9D-4AF5-A75F-F4C04B13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CF18D-2E57-4BD2-993A-D6C454FB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0071-E769-49B3-9983-769B32DF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3D6B7-A08D-4053-8B7A-3295F63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A1BD0-7179-4858-8058-CE801814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3836F-149C-442B-9455-B0FEED70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659EB-7D17-40E5-969B-EBC31EB6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7B673-7DB9-4223-8393-A6CEAB5D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AA3C4-BAE8-41CC-840F-80987720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80626-97A3-4E70-BA0B-1E943924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3480F-FD56-4A26-8835-B47F419F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50DC0-6BCD-45ED-AEF4-9AAD85CD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C4B49-1896-4530-960A-BDA5D1C4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1F82-388C-4F45-9C67-9C08850C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D7D8B-518C-4EBF-9BBE-ED07C4C2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F93D1-C1A1-4459-8609-E70597EC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DF814-646E-4A39-B67C-17B49999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A11CE-2E1B-4004-9D43-9FAD3E4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4CB05-2459-4724-B999-81EE3E4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DBF74-950B-4205-A2B2-BE34C6C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CD750-0A80-4885-8BA7-37F0C29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7B320-AA29-4687-BC6E-A5E82160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F17E4-8A37-4B58-87A0-713F21CA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51CC5-995C-49FA-AF35-922A0568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E824-47DC-4BA8-B4B2-05AC9209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2D57A-A4C8-47A6-916F-81E3C3A3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88988-FE09-4D35-A2BC-1DA689AE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4F030-5588-4504-BFB4-CD508E12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E1E75-2D86-4068-BB3B-21144AEA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87455-36C3-4830-92B8-ED52D113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06978-AF94-4CC6-91F0-15810296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6D53F-EA66-48EB-BD4E-DD92E72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C906D-BE51-4A4E-A828-2375D85F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5774B-AB22-4288-8B6E-0EDEC96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CB7A3-D363-4C26-B0C6-4DA13F57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13B8-9773-4B4E-B0AB-94C005C6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8814E-6F98-47AC-A09C-27D64629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9A8DF-CE01-45CF-92BE-E39A1863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DED8D-5F90-4347-BBD0-08341A54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5CB08-27E0-418F-BA42-C4FB4DB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C367F-7037-43FE-A724-C64D5678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E7DE8-59A0-47A7-AE6F-424E919B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C9EAE-33D0-4CBB-8A39-D673843F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23A81-A3BC-4136-9C53-CCEB16D8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48618-7AD2-4E01-9B4D-FDE27639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8747C-4E24-404D-9482-1D2E0653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26D0-D90F-415F-A361-23673790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531C8-6A5C-4AC8-B6E6-A84FBB9E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21668-4721-4F2B-9A15-14F28A68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A21C1-A618-462F-888D-750FFB80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A949A-8FD8-455F-A073-2FB678E6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178CA-5F05-40F1-B486-15E71F7F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ADCA1-2D10-4813-B292-B8CDDB67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6076E-D471-4AD4-810E-880DBC68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B050A-C9F3-4B2E-A279-4DC41226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9C7EB-187E-42DB-B890-2BD9ACCB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6D246-7873-4A71-8D05-08A0655C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A2C-5CFE-4DB8-BD48-1C574990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B1BB-C86B-43E8-98CF-08EF401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3E577-9662-45D9-91D2-EFA938BF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61A1EC-E5AB-4FA5-A8D3-EB9EB108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FC958-FE7A-49F3-BDD0-6BB71DDA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666EC-1CFE-4E97-9D65-F5454C84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3EBE0-52A4-4550-BA80-14D6CE23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2B311-D16D-4654-9649-1996623C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755287-E15A-4903-AFA5-208C9C2B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7C48D-1E9C-450F-97E0-62323BC4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E433A-8965-41DC-B529-EE4E7C5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D78BE-0880-40C8-B9D1-D75CF0C2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2388-B8F4-4CAC-853E-EF074793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CA949-A774-4297-9D05-502D0D44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FCE0C-5C74-4EE8-A18E-A305C7A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604EF-1C03-4343-8770-D946713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C24F2-5941-4F77-BA3E-35DD5CAA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4B809-66C4-484A-AF1A-827A33D1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D67EB-0917-4459-A17E-11C6B56E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2DDC5-B285-41EA-9C85-398E2F07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3DB1B8-659C-40CA-9DB8-E2DB7672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5E942-468E-44B3-87BC-796E79E7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EC86E2-F89D-4D57-BF08-ABB13A0B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9703-CB5A-4FDC-8ECA-BDF1DE85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72233-01E7-43A7-A9CA-A3D64794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31829-2CB2-413B-B16A-6E732026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5CCDD2-DF61-45FA-B54E-79CD1591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4FE30-7845-4E60-BC9B-C95A2E4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187FF-A37C-4A45-B12C-CC14A461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16B7A-3186-498B-A9CC-649BB097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8A8D0-E2E7-4C75-928F-963819A1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917AF8-8911-43DC-AC50-44692BBF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7744B-BAAF-43E7-A7A3-50E6054D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DC30EE-AEA0-4EC7-8FC1-C6E6E15F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30C3-B407-426D-99E2-E8E7D676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EEBD39-9EBE-4A8A-97D1-558F7968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5F2E06-1EE0-49D6-83AE-5B1408E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DAC321-B16A-43D1-B1B9-6F5A9BC0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00FC8C-497D-4BA6-BDEF-CC593B3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2CABD-5FE1-4E46-BE0A-5222D6CE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75BA19-9780-4611-BE5F-22DF8B92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F8F81-6615-4CCB-AFF6-82AE2F3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B3D9D-6808-4FF3-94C0-2D05304F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FFACA-0C59-4F4A-A626-E829F671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06708-F2B4-4795-8195-E2FECA3B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3375-9AF6-4727-A982-263C054B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C4328-5231-49CD-BAD2-E8D01A50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A89A6-62A7-4788-BBB0-60E5CBCA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846609-CCD2-4E8A-AD94-E592665F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88B060-663E-4564-B1D1-CF17B55D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F6F58-A43F-417A-B605-57857765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27BA5-BBDB-4910-895A-A7A327F9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3C158-7568-411B-933C-CC9E666A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141B9B-2BAA-4A50-BCEC-9C352A60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D8ABF-284D-4D9E-BE7B-98D3EC4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45526E-E149-4511-98FA-60857E8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5BE3-B68D-4385-81CF-4614EC53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C7163-92EE-48CB-ACB3-CE75AAC3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D1C56-C98B-4FDF-876A-F425130C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4812B6-8227-401A-A444-A18487C6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C46C7B-8C26-4A6F-8825-F3C70B5B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01D35-578D-4FA0-9484-25BCA4F8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04A31B-8DA8-41B8-ACCE-AFDB7281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23A4B9-EA1F-4F8C-9B4F-4DAAAD9A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C250D1-7BE4-4B30-B56A-B5DF89D3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3EADA1-9B73-4365-B439-610A63A5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B05FDF-A889-4606-98CB-27608D3C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A137-203D-4C4A-8F3E-E9C8CB8D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04CAA3-B199-43A3-BE1E-4DB16FA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53582A-1616-4F22-B02F-AB0D3C95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2DDFDE-4916-4D13-96D1-0CA3482C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448627-E4F7-4565-BA28-83D06244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1E4E75-1D58-41D2-AE13-754CE3AB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9284B0-8389-440D-B90E-EEB50FF9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B803D-4C88-4C98-8C7C-873CBC30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73C3DF-E9AB-4B83-9BE0-55A42BCE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1A734D-60CD-4E47-9BBC-88E4A1E6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B15C26-044F-4497-A637-CDCCB668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9DDC-3ADD-4D3B-AC9D-6E85EC15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5E6FE1-4963-44DF-8E03-3319034D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9AE777-E62F-4C3F-BF6F-B61044B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8BF90D-4038-48CB-B8C4-2DFF5DF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99C598-80ED-4918-AAFC-1503C065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2C73A8-67C8-45D4-9CD9-8B3DF2F9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6D4F19-6AFB-47EE-9874-F7D90218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DF3B93-828B-4563-B83F-6B9A0D85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10DA-3A8D-4C6C-A0D6-1995FC3D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B3B3-17E1-433D-8733-C6E74605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401-4E30-4ABC-A037-C0670DC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76D2-3845-4A24-9531-11654FA5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439D-39E5-44F6-9FAE-E54DF9A2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648F-0CAF-4E35-9730-D25F76D0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0A53-9A7F-47ED-AE5B-30539918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D3F0-9E9E-4183-89F3-13028D89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BE32-BEF9-41E7-843C-385147DC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76AB-CAF2-40C5-83E9-94699FE4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A6A8-1124-41DF-ABE0-54A8368A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13BF-95A7-4BBB-9EE8-88DDBEF4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17D8-29D4-4ED2-88D2-4E371C37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803-9D96-469A-A165-0CFE0A6C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7880-537F-49E3-8159-4C435B10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3098-D347-4F3B-BEFC-988EDAA0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F542-CC4B-4679-AD2A-42FCE50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18F79-014E-4329-940A-ED20146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1B15-0392-4ECC-8C95-1C8B422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6406-B9EF-450C-888E-A696FE6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43FA-CE45-4D10-925E-BC4AC80D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8D783-02CE-4AB1-923C-FADE0B14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70BF-7318-4658-985A-F3E8A9CF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2E8EA-E5EE-4ED7-AB9C-28E08B24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9A1-A6A6-4467-A517-955AF233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E434C-CAC2-489C-8109-F212D801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BB37-D86D-427F-AA3A-8C18E0B3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6A16-3B96-419D-BC15-20BAB2E6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1E0EB-1D7E-4B01-86ED-264DB8DD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D89C5-B4F9-4269-B0E2-50B3C96E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C803-3E6E-4684-9175-77002E86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61DD-AF29-40A5-8AEA-8309694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62D3F-F0A6-4F1C-85FE-5C7186A2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67CA-3C0B-4EBF-A9D5-59062C8B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3C6E1-A44E-4F71-87D1-DFA3D7CF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C8D-1259-44EA-963B-EC2A6405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930C0-FC35-4DA2-8028-76D6F44C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9A64C-7582-4E3D-B48C-5F00AA29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6E6A4-7E39-42EE-93E2-BC6DF236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297E4-F0E4-4A2E-A6B8-78B1B579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56A25-9740-49B4-889A-BF4EBEFD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537B9-2149-4A66-9438-930A952A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45D06-9B91-4309-82B0-3656C8B9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8D529-85D6-4A55-A561-3A4E2CAF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C7C0-DB8C-45DC-BB57-848EE8A1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4FDC2-A97C-4388-85B8-58D876D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06C-4895-4F45-99CD-50E8F40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E0A8B-7D92-4AC9-A914-328F263A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CB140-1AA9-4871-868A-563232D4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A710F-7087-4D67-9BC0-2666B255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E831-9998-40F4-B8BC-962D0E40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A9D0A-0B29-4C01-8DDB-FEDA3A55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18470-EC9A-46BA-AA82-1B607BF4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28E41-C964-47F2-B988-206261CB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BD36B-0EEE-449B-8327-63A40BFB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22AB8-F999-48F7-99FB-3E4DD633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C7C0B-5733-46EF-A902-863ACA7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C65-8AA3-4C1E-9587-8E1CAE4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49069-F803-4B18-86F3-0A409A1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B63D-1428-4ABF-97E3-3B4D81B0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C3F4F-0C01-414E-8988-102BF951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D276F-83E6-42FC-BA77-07A1B999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9B62E-100E-4CAB-B54D-2DB6A041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61825-9335-4893-907D-5B8EAFE0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21B2-08EB-43D5-8C6D-07DD077A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72FEF-34E7-454B-9E68-25CF5B6D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1FFFA-78F1-4D54-9983-A7D2F016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44212-D890-4B95-BFC2-EE437F61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C24-0CFB-4DD3-9057-B7F416A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9FD37-2B1B-4D29-8920-9C1C7CB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5C997-AC43-417A-B129-3E42C73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DE03-0303-4370-9C3A-48F0D9C6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B2C72-FB58-4D54-A048-7F147C1B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D335-2C35-4E97-9A8D-8B373F8B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67072-CAB2-45C6-9B78-8A4DF085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4842-B87F-4DAC-95C1-38A5A0B4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2A1AC-E5D5-4445-9F14-DEFFFE85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17A60-436A-439C-AE0A-11F634AE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000FE-AD0E-4A08-9A3A-C2E54A5D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B68E-7199-487D-9A55-019C04CEBE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A007-7A6F-481F-B6DB-8879226A0C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9A43-03B9-4C4C-982D-DE8E865A23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DC0B-F665-48A2-ACEC-84263137FA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8649-4114-4E61-A5EF-45D849BADE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6790-C8B8-4CFA-9E01-2CDE1C4354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C449-CF73-40A5-B476-3947A2D15D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4E55-0EEF-4539-B468-3B04EFD6F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C067-06C0-4CE4-92B6-A869C30B4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3358-6592-4DBA-8A41-1605AAF900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9157-6FBC-4076-A84A-27E0A0E374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1856-2D49-4888-A739-017EB37971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A5B4-B4C9-48EC-B182-18F3FE012E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A52-46BD-4FD8-893A-3EBA716B8A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BBE6-FC98-4D47-9FD2-CBD275822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020F-4937-40B5-9EB6-ADEC385211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1A10-8030-4B16-AC1D-39AC9AE895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6E5A-7C17-464B-BF71-A7AC6ED28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04DD-D158-4AD9-A520-08998FA3A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830B-4E91-4475-B423-362D846A5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99A-44AD-4173-BE3C-EAE1AEA79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0DC9-7ECA-43DE-887A-127EF378F7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3DBF-426C-4027-A6A4-9DDD173F61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4B15-C843-4A9D-9885-5199793042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63F1-0252-4CF6-AE7C-2DD18E915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8463-5C7F-4967-985B-E85024C89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A6EB-DE46-4734-89DA-776D597303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3672-ACB7-409A-BCCD-E7938DD2DB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85FB-3106-41BB-940E-F78E1A2975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12CA-6B3C-46FC-B998-2FADEE46AC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8B70-4D4E-4924-8251-4C70601DC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D89-96B0-4811-8D17-C7CFA9AF84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D24D-37C8-498F-A561-C72C7E7574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DBCD-0318-46F4-880F-DA9A91A155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CC05-DCA2-44AF-86DB-64A969CF6E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8237-DCBC-4EC6-97E3-696A26084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C36C-7A79-46BF-B1C7-FDAE102D3A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204E-84E2-4B0A-B1F1-9FFEAF3D5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8731-540B-43A9-9EA0-6C74E7B860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A8C7-9F41-4EA6-B074-88370BF67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0E1B-29C9-48C3-B357-0B8AAE9539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5385-C0A6-47B2-8E02-E30798C8E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8160" y="2967120"/>
            <a:ext cx="90676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95440" y="909720"/>
            <a:ext cx="7953120" cy="218124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2" descr=""/>
          <p:cNvPicPr/>
          <p:nvPr/>
        </p:nvPicPr>
        <p:blipFill>
          <a:blip r:embed="rId2"/>
          <a:stretch/>
        </p:blipFill>
        <p:spPr>
          <a:xfrm>
            <a:off x="184320" y="3276720"/>
            <a:ext cx="8775360" cy="20415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4154400" y="148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4614840" y="2133720"/>
            <a:ext cx="6778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7451640" y="1469880"/>
            <a:ext cx="8654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7351560" y="213372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1979640" y="378936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1692360" y="4437000"/>
            <a:ext cx="57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9"/>
          <a:stretch/>
        </p:blipFill>
        <p:spPr>
          <a:xfrm>
            <a:off x="4716360" y="378936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0"/>
          <a:stretch/>
        </p:blipFill>
        <p:spPr>
          <a:xfrm>
            <a:off x="4500720" y="4422600"/>
            <a:ext cx="57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1"/>
          <a:stretch/>
        </p:blipFill>
        <p:spPr>
          <a:xfrm>
            <a:off x="7740720" y="378936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2"/>
          <a:stretch/>
        </p:blipFill>
        <p:spPr>
          <a:xfrm>
            <a:off x="7494480" y="4365720"/>
            <a:ext cx="5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95120" y="123840"/>
            <a:ext cx="8753760" cy="6610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7308720" y="28814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451640" y="458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7308720" y="6237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243000" y="1352520"/>
            <a:ext cx="8658000" cy="4152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900000" y="413388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971640" y="4897440"/>
            <a:ext cx="75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76120" y="1809720"/>
            <a:ext cx="8591760" cy="32385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56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568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9240" y="1523880"/>
            <a:ext cx="8705520" cy="38102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971640" y="348624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00000" y="43369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85760" y="1495440"/>
            <a:ext cx="8772480" cy="3867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410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410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04840" y="281160"/>
            <a:ext cx="8734320" cy="62956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826920" y="537372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611280" y="6093000"/>
            <a:ext cx="50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219240" y="1166760"/>
            <a:ext cx="8705520" cy="4524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971640" y="3544920"/>
            <a:ext cx="5113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51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1042920" y="4883040"/>
            <a:ext cx="511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190440" y="833400"/>
            <a:ext cx="8763120" cy="5191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00000" y="381780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6920" y="5172120"/>
            <a:ext cx="741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5:5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